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23F3-8E80-4914-A79E-F36904DB73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B4B-0294-4348-A469-18028CE72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E8F7-CC96-48F2-A76F-5D540EE9C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5B1-5A5B-4439-90C4-75ECD2A5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1A6-42E3-4BFC-84F9-2CCC4754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DD3-CD8A-4E1F-BBE1-F85EE730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0E7-0847-49FC-904C-E417DFAD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21B0-692B-4B45-A781-6812B2F5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A151-A524-4B64-80E9-D897E290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4A95-0B7A-447A-BE17-2EAE624E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5663-404D-4765-93C3-FC72EA2B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B6AA-A6AC-4B90-AC91-9B833C9A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69C4-38A9-4038-8BCF-91510215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584F-B977-4464-BEE3-4729AFAE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D24-E7F1-4384-9EEA-F8EE4A85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1C16-4005-4E90-A471-8B341AD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03AA-B7FB-4464-8365-F77A32F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4590-15B0-4D66-BCF8-F664448B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A931-2759-4D5C-8005-4581490B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F5A1-D7E8-4701-B112-0A6F864C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AE5D-20CF-41F5-88C5-30B0F2A0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9A54-BC75-4582-A2AF-F41E6A4E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9173-7EB1-43A5-991A-B0C65FDF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3BC0-C920-4EC2-BF22-C48A9E91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1FBF-56C8-4572-84FC-403B0095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666-6DA8-418D-8C25-3715B5D1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31EF-3CAE-4508-B047-CB98BF8B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92BC-4547-48F1-BC1A-920D8044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3A74-AEBE-4C96-A4C1-4CB27DB8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EEC6-D587-4554-ADBF-E48D0C2A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6112-75E9-412C-93F9-932B3AFB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00DC-E60F-4E21-8D84-EFD87E9E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A4C1D-F6A8-4544-929C-DE8E4C15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B3F3A-5DA9-4821-B38A-B9BED35C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3216-31E0-413A-861A-7EFBFF0B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2E5F-3F3E-4807-B0B1-B741C23D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745-4561-47EE-BAC1-829525A3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73BF-80E6-44F0-AB3C-BCB82EC8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C97A8-A204-4D21-B746-1B008375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DD82-5E76-479E-B483-19DD33DF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3D7C-88BF-4843-9B60-9AACE4E8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58F1A-9C72-48F8-AB49-20AEDF96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1BF46-CC57-4C68-894F-3513E067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0D17-48ED-4BA2-BE77-C2908D5B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5189-2891-4626-BBCD-155269D7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2E0E-49AC-4304-9BAF-DB999DAC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E2CF5-275F-49DF-963E-30B9DF4E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EF5-3325-4567-A19C-6EC15EEB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D9DD-77C6-4525-9400-A0E6C783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2823-F1E6-4B2D-840B-65099EA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8323-8E46-490D-97BC-8CFF2F7E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AE811-78ED-4595-B86E-84037E49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AC741-8F26-4725-9AFE-76610F5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F4C54-763C-4506-83A2-6AC5FDFE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AD1FC-AEA3-43AA-8859-84AA8712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9415D-76D6-4EDF-9FFB-DAD221B5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219C-0BD2-498C-A8E0-954DB82C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64DD-C93E-4F99-A277-C9A02265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335-29BA-4753-9AF5-0A791EDD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C9B0D-0D76-44FE-B14D-D1C8C06C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A5C-8BB9-43C8-BD43-C122B86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831-C1F8-42C1-A2FB-168B0493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FCA-2878-4E17-B2EB-B05CE80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A48-20D7-4AB8-ADA9-A3DB7E8B2AD8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2911-7F71-4A9F-A848-EBEC4339EAA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ADF4-7462-4B96-AEDC-76A0EE55FB13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F3A7-A47F-4ED1-BC23-083C99E2027C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29F-3593-48EB-9F2B-D2DD88222DF7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7316-20BC-4B92-A8E9-08F6FFEA6E5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4DEA-0C9E-4FB5-B523-D56D242C07DF}" type="datetime">
              <a:rPr b="0" lang="en-US" sz="1000" spc="-1" strike="noStrike">
                <a:solidFill>
                  <a:srgbClr val="f4e7ed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4293-49B1-4061-9335-82A913C95FD5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1ECD-B43F-4D75-9058-34ADBEFAAB04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DD2-A950-4FC3-974F-EDB376AA10E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82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21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Century Learn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Nadine Tibbs-Stallworth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8" descr="Technology.jpg"/>
          <p:cNvPicPr/>
          <p:nvPr/>
        </p:nvPicPr>
        <p:blipFill>
          <a:blip r:embed="rId3"/>
          <a:stretch/>
        </p:blipFill>
        <p:spPr>
          <a:xfrm>
            <a:off x="0" y="838080"/>
            <a:ext cx="26668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70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Traditional Environments</a:t>
            </a: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38120" y="17524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Emerging Learning Landscap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236232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acher directed memory-focused instruction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olated work on invented exerci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tual literal thinking for compete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91120" y="23623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udent-centered performance-focused lear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laborative work on authentic, real-work projec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eative thinking for innovation and orginal solu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5486400" y="632448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iste – www.iste.o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70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Traditional Environments</a:t>
            </a: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038120" y="17524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Trebuchet MS"/>
              </a:rPr>
              <a:t>Emerging Learning Landscap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361960"/>
            <a:ext cx="3581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imary focus on school and local commun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olated assessment of lear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nowledge from limited, authoritative sour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191120" y="2362320"/>
            <a:ext cx="352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anded focus including digital global citizenshi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ed assessment for  lear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arner-constructed knowledge from multiple information sources and experien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601992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iste – www.iste.o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400880" cy="1317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335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ttp://www.youtube.com/watch?v=_A-ZVCjfWf8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4" descr="6619f211d53ad874.jpeg"/>
          <p:cNvPicPr/>
          <p:nvPr/>
        </p:nvPicPr>
        <p:blipFill>
          <a:blip r:embed="rId2"/>
          <a:stretch/>
        </p:blipFill>
        <p:spPr>
          <a:xfrm>
            <a:off x="1905120" y="3657600"/>
            <a:ext cx="4378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560"/>
            <a:ext cx="723888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s a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constant stream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professional decisions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ad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before, during and after interactions with the students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cisions which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when implemented, increase the probability of learning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4495680" y="6172200"/>
            <a:ext cx="31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adeline  Hunter, Author of </a:t>
            </a:r>
            <a:r>
              <a:rPr b="0" i="1" lang="en-US" sz="1000" spc="-1" strike="noStrike">
                <a:solidFill>
                  <a:srgbClr val="000000"/>
                </a:solidFill>
                <a:latin typeface="Trebuchet MS"/>
              </a:rPr>
              <a:t>Mastery Tea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533520" y="16761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oin the conversation Sign up now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ke conne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llaborative gro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fessional organization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ke minded peopl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ek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are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twitter.jpg"/>
          <p:cNvPicPr/>
          <p:nvPr/>
        </p:nvPicPr>
        <p:blipFill>
          <a:blip r:embed="rId2"/>
          <a:stretch/>
        </p:blipFill>
        <p:spPr>
          <a:xfrm>
            <a:off x="685800" y="380880"/>
            <a:ext cx="1270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ing lets you create and join new social networks for your interests and passion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 the classroom and ou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Student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an interact with each other to share ideas, collaborate on projects, keep notes, announce project status, project photos and vide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Teacher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an do the sa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5" descr="79b4814f8a0219fe.jpg"/>
          <p:cNvPicPr/>
          <p:nvPr/>
        </p:nvPicPr>
        <p:blipFill>
          <a:blip r:embed="rId2"/>
          <a:stretch/>
        </p:blipFill>
        <p:spPr>
          <a:xfrm>
            <a:off x="6858000" y="4191120"/>
            <a:ext cx="990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905120"/>
            <a:ext cx="72388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's fast, easy, and complete fre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can create a wiki page for anything that isn't pornographic, hateful, illeg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control who can view the page and who can edit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e Encyclopedia of Yo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981080"/>
            <a:ext cx="7238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iki Space pages can be connected to personal profiles and family &amp; friend pages on WikiTre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nables you to create pages for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ubs or organization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es or school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vents or vacation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ighborhoods or home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any other place or thing that's significant to you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980720"/>
            <a:ext cx="723888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 pages have sections f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asic data (name, dates, location)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wiki description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emories or personal statements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hotos, and 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ulletin board for discussing how to grow the page with other people you trust to view and edit it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3" descr="wikispaces.png"/>
          <p:cNvPicPr/>
          <p:nvPr/>
        </p:nvPicPr>
        <p:blipFill>
          <a:blip r:embed="rId2"/>
          <a:stretch/>
        </p:blipFill>
        <p:spPr>
          <a:xfrm>
            <a:off x="1600200" y="5181480"/>
            <a:ext cx="51055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Edmodo is a private social platform built for educa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gn up now. I am a teacher, or a stud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dmodo Feat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38080" y="3733920"/>
          <a:ext cx="6096240" cy="2125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croblog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tore and Share 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ivacy Contr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ublic Timeline (R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tifications (S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ass Calen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ssignments &amp; 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are Links and Emb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bscribe to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ke Twitter with more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About.com: Podca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ud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monstrate acquired knowled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laborative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liver cont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l &amp; Formal Assess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ow student creativity and interpretation of cont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6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sually engag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5:03:10Z</dcterms:created>
  <dc:creator>Nadine</dc:creator>
  <dc:description/>
  <dc:language>en-US</dc:language>
  <cp:lastModifiedBy>College of Education</cp:lastModifiedBy>
  <dcterms:modified xsi:type="dcterms:W3CDTF">2009-08-08T15:22:43Z</dcterms:modified>
  <cp:revision>16</cp:revision>
  <dc:subject/>
  <dc:title>Teaching </dc:title>
</cp:coreProperties>
</file>